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61C-2376-49E7-90C2-A5438BA4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036-5EB2-4E0A-84E8-7A263E2A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B59-066B-4DF4-B335-69F91D96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7E0-3BF3-4045-9483-5FDFB5C1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D66-76B8-41C5-9824-4F2AB88C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D1C-F3C7-4C90-90D5-40BC808F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334-37FE-435F-9628-D356DF8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C2B7-3CD6-4EBF-BB27-29302A0B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4D22-5D6D-488F-80A1-749722F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537-8137-4806-A76F-336E9BE6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852-2E22-47D2-BAAD-348D150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795-1841-49D9-B395-5B2C11D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B04D-B074-44FC-9CA7-2FBD3FD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CBA-4E20-41F9-B781-87AF4DF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59A-FB8D-4422-8E20-71EEFF5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D7DF-846C-47C2-A5A7-5565E33C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FB68-6811-4074-9934-96AAFE22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C118-934E-4A09-995F-08AA1757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F5E2-297C-481F-87DB-C7EF1AA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A005-5958-4518-AB65-BF63C9E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7123-AC66-4866-93B2-E26D659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ADAB-4944-4144-8BD8-6071E06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03B-F9B4-4C40-ABE5-81EC69C8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2896-D60F-4FC3-9B41-5BCAD37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37A0-6F7A-496B-AEAC-E2E6BB0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15F2-2833-4E26-B581-0A755A2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37E8-CA97-4E49-9272-58AA176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4E78-1234-41F9-B02C-AB5780C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B482-EBA4-408D-B135-C2A61858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90DA-0ACF-4578-B014-BB5D0828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1FE8-D712-49EC-A218-860E0BD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4DCD-9305-4F76-B188-CFC0A2F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0BEE-E600-4755-BC5D-13DC923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484-F403-4B4C-919D-E204FAD5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3DF4-B75A-4B57-8135-732E5C86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A901-03EB-4FE7-A4B6-EF346398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16F4-E983-4EC4-90B3-BF6ADD9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24A86-532F-4505-996C-D8CF173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A705-6BC8-4CBC-9A7F-B048D7A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5676-55C9-4F8C-A69E-6ABB937E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6E3D-9487-4562-9612-2EDFB3F6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0CB3-BC9F-45F8-87C0-D46F254C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E5F2-B784-4E84-8E7E-E978B6FB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B50F-D52D-467E-9D49-4813CA81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87F-E6D4-4A6E-BB19-9404C82B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793D-15F3-4AFB-A178-CCEEFEB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DEBF-431D-4A0D-BAD4-43E2DEA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F259-812A-4638-AAD7-5BF2C35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9EA60-7BD4-4ABF-A18E-FA7693F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F731-A642-4E6F-872A-F97DB8ED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3E1F-7284-472D-A52F-9333D0C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8FFC-C47C-4274-BAC9-94EDA2B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AB4D-A5B6-4429-A2C4-E87E7D3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FE01-0AB6-454A-AE8F-5E9C1AA9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F68D-A81E-4181-AB7D-5199EC20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709-9429-4462-B7DB-358CB8E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B646-A696-4289-92E4-E07262DA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A31-FFCB-4452-ABC7-1D2B9365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4B8-8C2F-452C-8E08-40FB1B8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BB4-2140-4AE6-B078-911C56E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C0006-8094-4DE1-ADF5-7694112DF8E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9C53C-1EBB-44C6-BBE2-23EAA708FDB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C8FD0-3697-4684-98E7-F68230AE5530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5CDBE-EBF6-4827-AB50-D7B3EBA54BF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B361D-1DE0-4C92-A11A-65F2AE92EDA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Ο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ΚΟΣΜΟΣ ΤΩΝ ΚΛΑΣΜΑΤΩΝ 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ημιουργός: Πελαγία Μπέλλου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2920" y="371160"/>
            <a:ext cx="4957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λάσματα </a:t>
            </a: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               </a:t>
            </a: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Fraction clipart 20 free Cliparts | Download images on Clipground 2023"/>
          <p:cNvPicPr/>
          <p:nvPr/>
        </p:nvPicPr>
        <p:blipFill>
          <a:blip r:embed="rId4"/>
          <a:stretch/>
        </p:blipFill>
        <p:spPr>
          <a:xfrm>
            <a:off x="6699240" y="534960"/>
            <a:ext cx="2860560" cy="329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ractions clipart 20 free Cliparts | Download images on Clipground 2023"/>
          <p:cNvPicPr/>
          <p:nvPr/>
        </p:nvPicPr>
        <p:blipFill>
          <a:blip r:embed="rId5"/>
          <a:stretch/>
        </p:blipFill>
        <p:spPr>
          <a:xfrm>
            <a:off x="981000" y="3494160"/>
            <a:ext cx="2724120" cy="311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404 - File or directory not found. | Math, Math made easy, Teacher websites"/>
          <p:cNvPicPr/>
          <p:nvPr/>
        </p:nvPicPr>
        <p:blipFill>
          <a:blip r:embed="rId6"/>
          <a:stretch/>
        </p:blipFill>
        <p:spPr>
          <a:xfrm>
            <a:off x="4110120" y="1449360"/>
            <a:ext cx="2184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232920"/>
            <a:ext cx="3146400" cy="63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Η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ώ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α και τα κλασματ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ι σημα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ί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νουν οι εκφρασει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ς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Θα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έ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θω σε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ν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ο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 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ρ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ί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α 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χολ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 ποιες εικόνες ταιριάζουν</a:t>
            </a: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ΜΑΘΗΜΑΤΙΚΑ Ε – ΠΑΙΖΩ ΚΑΙ ΜΑΘΑΙΝΩ ΤΑ ΚΛΑΣΜΑΤΑ | Αφιερωμένο στα μαθητούδια!"/>
          <p:cNvPicPr/>
          <p:nvPr/>
        </p:nvPicPr>
        <p:blipFill>
          <a:blip r:embed="rId4"/>
          <a:srcRect l="52764" t="36236" r="2327" b="-1942"/>
          <a:stretch/>
        </p:blipFill>
        <p:spPr>
          <a:xfrm>
            <a:off x="4392720" y="1041480"/>
            <a:ext cx="4795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90520" y="579600"/>
            <a:ext cx="62420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υνταγές  και Κλάσματα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852560" y="1308240"/>
            <a:ext cx="29876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ΕΙ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ΥΛΙ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 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ΒΟΥΤΥ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ΖΑΧΑΡ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½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ΑΛΕΥΡ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3 ΑΒΓ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1 ΒΑΝΙΛ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211720" y="2550960"/>
            <a:ext cx="29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ΠΑΡΑΤΗΡΕΙΣ ΣΤΙΣ ΥΠΟΓΡΑΜΜΙΜΕΝΕΣ ΦΡΑΣΕΙ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Η ΣΗΜΑΣΙΑ ΤΟΥ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187200"/>
            <a:ext cx="3502080" cy="65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ο κλάσμα είναι μια διαίρεση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ανερώνει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</a:t>
            </a:r>
            <a:r>
              <a:rPr b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μέρος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ενός συνόλου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Για παράδειγμα, το κλάσμα </a:t>
            </a:r>
            <a:r>
              <a:rPr b="1" lang="el-GR" sz="28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¼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μου δείχνει ότι πήρα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1 από τα 4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ομμάτια της πίτσας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φανερώνουν τα κλασματα στις εικόνες;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ιαδραστική άσκηση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μέρος της πίτσας έφαγα; - Βρες το ταίρι (wordwall.ne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ola compañeros y amigos que nos visitan compartimos este fabuloso ..."/>
          <p:cNvPicPr/>
          <p:nvPr/>
        </p:nvPicPr>
        <p:blipFill>
          <a:blip r:embed="rId4"/>
          <a:srcRect l="0" t="4899" r="0" b="4163"/>
          <a:stretch/>
        </p:blipFill>
        <p:spPr>
          <a:xfrm>
            <a:off x="4402080" y="368280"/>
            <a:ext cx="49086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32920"/>
            <a:ext cx="87613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ΕΙΝΑΙ ΤΑ ΚΛΑΣΜΑΤΑ ΣΤΗΝ ΕΙΚΟΝΑ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Pin de Lorena Diaz en de todo un poco. | Fracciones para primaria ..."/>
          <p:cNvPicPr/>
          <p:nvPr/>
        </p:nvPicPr>
        <p:blipFill>
          <a:blip r:embed="rId4"/>
          <a:stretch/>
        </p:blipFill>
        <p:spPr>
          <a:xfrm>
            <a:off x="1217520" y="1552680"/>
            <a:ext cx="3853080" cy="480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371600" y="2286000"/>
            <a:ext cx="960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26800" y="70344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ΤΙΑΧΝΩ ΚΛΑΣΜΑΤ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69760" y="2041560"/>
            <a:ext cx="8761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Διαδραστικές ασκήσεις ‪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ισαγωγή στα κλάσματ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‪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τιάξε ένα κλάσμ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2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01:38Z</dcterms:modified>
  <cp:revision>138</cp:revision>
  <dc:subject/>
  <dc:title>Παρουσίαση του PowerPoint</dc:title>
</cp:coreProperties>
</file>